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E429-EF0C-4C55-A5BE-A049B907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349A-AA41-4FEF-B177-FBBF55437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ttom picture are the Ural Mountains and the top pictures is Mount Ev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C548-A86B-4B1C-A9FC-6D516EC8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Lake Baik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BB8A-0B8F-4B4E-8437-0F9751095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65CD-483F-4B15-AD31-3FB941F2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E1F-95A1-429D-9AE1-5EF3E9D6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72DB-68C7-427A-8D82-A2F9E76A7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838-1FE9-450F-AB22-6910A4AE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201-0C1A-4416-97A9-E49583A2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7BD-D99A-42DD-BDB5-4DA57282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3BB-C310-48EA-A680-8F9794A3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DD1-1FF3-4B87-AFC6-E9B2F8EF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E51-4882-4E38-83BE-8600DB26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7B9-9FA5-40B2-B907-60143E93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952-25FE-43CB-86AD-06091135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972-5E9C-4E39-848B-F5C067DE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3CE-FBB9-4D66-BC77-620DAEA6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60D-A292-4979-AB17-7FAA1D01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22D-6828-4E7F-B544-3D002B5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F55F-E52C-4485-8C7D-C0F9CCCDD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scowtopnews.com/image/article/7/0/4/1704.jpe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reehugger.com/lake-baikal-goldman-prize.jpg&amp;imgrefurl=http://www.treehugger.com/files/2008/11/lake-baikal-pollution-free.php&amp;usg=__2cFacaCCFadgJs2PcVDs-wTDDlc=&amp;h=315&amp;w=468&amp;sz=52&amp;hl=en&amp;start=9&amp;zoom=1&amp;um=1&amp;itbs=1&amp;tbnid=OcG-jCZnnzA_GM:&amp;tbnh=86&amp;tbnw=128&amp;prev=/images%3Fq%3Dlake%2Bbaikal%26um%3D1%26hl%3Den%26tbs%3Disch: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action.walmartwatch.com/page/-/blog/thumbs%2520up.jpg&amp;imgrefurl=http://walmartwatch.com/blog/tags/tag/pr/&amp;usg=__G7jdQQE1Vb5TutD7-74kychr7rU=&amp;h=320&amp;w=320&amp;sz=36&amp;hl=en&amp;start=34&amp;zoom=1&amp;um=1&amp;itbs=1&amp;tbnid=Snp4BfHeRDaGlM:&amp;tbnh=118&amp;tbnw=118&amp;prev=/images%3Fq%3Dthumbs%2Bup%26start%3D20%26um%3D1%26hl%3Den%26sa%3DN%26rlz%3D1R2ADSA_enUS363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oogle.com/imgres?imgurl=http://www.clipartguide.com/_small/0808-0710-2914-4647.jpg&amp;imgrefurl=http://www.clipartguide.com/_pages/0808-0710-2914-4647.html&amp;usg=__L_gsxl4TM7YKOww11ntEbouHoMw=&amp;h=300&amp;w=300&amp;sz=5&amp;hl=en&amp;start=33&amp;zoom=1&amp;um=1&amp;itbs=1&amp;tbnid=p-GN-w-MPqAaNM:&amp;tbnh=116&amp;tbnw=116&amp;prev=/images%3Fq%3Dcheck%2Bmark%26start%3D20%26um%3D1%26hl%3Den%26sa%3DN%26rlz%3D1R2ADSA_enUS363%26ndsp%3D20%26tbs%3Disch:1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bestwaytoinvest.com/UserFiles/Image/Russia-c.jpg&amp;imgrefurl=http://www.bestwaytoinvest.com/russia&amp;usg=__8TcAv4irTc9FYSTZYKTShQ55trI=&amp;h=705&amp;w=663&amp;sz=82&amp;hl=en&amp;start=2&amp;zoom=1&amp;itbs=1&amp;tbnid=vS0nfjQiHHezBM:&amp;tbnh=140&amp;tbnw=132&amp;prev=/images%3Fq%3Drussia%26hl%3Den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www.cpc.unc.edu/projects/rlms/images/russia_home_upper_banner.jpg&amp;imgrefurl=http://www.cpc.unc.edu/projects/rlms/&amp;usg=__VbwQTSRXNi7caYhTaUv9xfgWLRg=&amp;h=308&amp;w=509&amp;sz=51&amp;hl=en&amp;start=20&amp;zoom=1&amp;itbs=1&amp;tbnid=z8jXwAd24eb_mM:&amp;tbnh=79&amp;tbnw=131&amp;prev=/images%3Fq%3Drussia%26hl%3Den%26tbs%3Disch: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www.e-architect.co.uk/images/jpgs/moscow/russia_tower_fosters_oct07_4.jpg&amp;imgrefurl=http://www.e-architect.co.uk/moscow/russia_tower.htm&amp;usg=__k_f-SSwRd0_BMuCa8DvED1YnXY8=&amp;h=1000&amp;w=500&amp;sz=49&amp;hl=en&amp;start=12&amp;zoom=1&amp;itbs=1&amp;tbnid=C-J8fZYhz3QvyM:&amp;tbnh=149&amp;tbnw=75&amp;prev=/images%3Fq%3Drussia%26hl%3Den%26tbs%3Disch:1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,and Kevin D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about land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to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343400" y="5029200"/>
            <a:ext cx="34383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 rot="20551800">
            <a:off x="685800" y="228240"/>
            <a:ext cx="1676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4640" y="4784760"/>
            <a:ext cx="4219560" cy="208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t0.gstatic.com/images?q=tbn:Snp4BfHeRDaGl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42116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1371600"/>
          <a:ext cx="8229600" cy="510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good navigable rivers in Russia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2 plains in Russia that are very good for farming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 because of how cold it is, the rivers are froz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also too cold for farming in the pl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7" descr="http://t1.gstatic.com/images?q=tbn:p-GN-w-MPqAaNM:">
            <a:hlinkClick r:id="rId2"/>
          </p:cNvPr>
          <p:cNvPicPr/>
          <p:nvPr/>
        </p:nvPicPr>
        <p:blipFill>
          <a:blip r:embed="rId3"/>
          <a:stretch/>
        </p:blipFill>
        <p:spPr>
          <a:xfrm rot="1014000">
            <a:off x="2203200" y="4565160"/>
            <a:ext cx="1790640" cy="179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law.columbia.edu/ipimages/Information_technology/images/CheckMarkX.jpg"/>
          <p:cNvPicPr/>
          <p:nvPr/>
        </p:nvPicPr>
        <p:blipFill>
          <a:blip r:embed="rId4"/>
          <a:stretch/>
        </p:blipFill>
        <p:spPr>
          <a:xfrm rot="20660400">
            <a:off x="5562720" y="4640040"/>
            <a:ext cx="16761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bugbog.com/images/galleries/russia_pictures/russia_pictures_door.jpg"/>
          <p:cNvPicPr/>
          <p:nvPr/>
        </p:nvPicPr>
        <p:blipFill>
          <a:blip r:embed="rId2"/>
          <a:stretch/>
        </p:blipFill>
        <p:spPr>
          <a:xfrm rot="20713200">
            <a:off x="34920" y="363240"/>
            <a:ext cx="298116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t3.gstatic.com/images?q=tbn:vS0nfjQiHHezBM:">
            <a:hlinkClick r:id="rId3"/>
          </p:cNvPr>
          <p:cNvPicPr/>
          <p:nvPr/>
        </p:nvPicPr>
        <p:blipFill>
          <a:blip r:embed="rId4"/>
          <a:stretch/>
        </p:blipFill>
        <p:spPr>
          <a:xfrm rot="906600">
            <a:off x="6148440" y="299880"/>
            <a:ext cx="2681280" cy="284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t3.gstatic.com/images?q=tbn:z8jXwAd24eb_mM:">
            <a:hlinkClick r:id="rId5"/>
          </p:cNvPr>
          <p:cNvPicPr/>
          <p:nvPr/>
        </p:nvPicPr>
        <p:blipFill>
          <a:blip r:embed="rId6"/>
          <a:stretch/>
        </p:blipFill>
        <p:spPr>
          <a:xfrm rot="1244400">
            <a:off x="-108000" y="3993840"/>
            <a:ext cx="3432240" cy="207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t0.gstatic.com/images?q=tbn:C-J8fZYhz3QvyM:">
            <a:hlinkClick r:id="rId7"/>
          </p:cNvPr>
          <p:cNvPicPr/>
          <p:nvPr/>
        </p:nvPicPr>
        <p:blipFill>
          <a:blip r:embed="rId8"/>
          <a:stretch/>
        </p:blipFill>
        <p:spPr>
          <a:xfrm rot="20616600">
            <a:off x="3189240" y="1741320"/>
            <a:ext cx="2278080" cy="510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t2.gstatic.com/images?q=tbn:gVg60s1Mqu7dKM:"/>
          <p:cNvPicPr/>
          <p:nvPr/>
        </p:nvPicPr>
        <p:blipFill>
          <a:blip r:embed="rId9"/>
          <a:stretch/>
        </p:blipFill>
        <p:spPr>
          <a:xfrm rot="1156200">
            <a:off x="5589720" y="3828600"/>
            <a:ext cx="3112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3:43:40Z</dcterms:created>
  <dc:creator>Emilka</dc:creator>
  <dc:description/>
  <dc:language>en-US</dc:language>
  <cp:lastModifiedBy> </cp:lastModifiedBy>
  <dcterms:modified xsi:type="dcterms:W3CDTF">2010-12-20T23:47:24Z</dcterms:modified>
  <cp:revision>9</cp:revision>
  <dc:subject/>
  <dc:title>LAND IN RUSSIA</dc:title>
</cp:coreProperties>
</file>